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0D63-107F-443C-877A-18197C2B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B927-1EBB-4654-B8F0-9CF90EA7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CD20-FC96-4904-8E37-B671DFD18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483-0CD6-428A-9CD0-2DD6C188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FAE-EC93-48ED-AA8D-2D870BF7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1CE3-FC6D-4EA5-BDC3-C0D17A76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7A7-B3B2-4BED-A168-08F3C0BD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2C2-E707-403A-9175-80F38B25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500-236E-40BA-873B-151F780D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4883-D58C-4EDC-B816-5EE4041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635-D196-4439-8FD9-CB4040E4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06F-B30D-4764-A482-2BBEA816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BA4-4F3E-4AF5-BA35-4D381DFA06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roi, conducatori si evenimente din epoca medievala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123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: Pasca Ion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ala: ,, Simion Balint” Copaceni, jud. Clu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a : a IV-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MIRCEA CEL BATRA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5" descr="mirceacb.jpg"/>
          <p:cNvPicPr/>
          <p:nvPr/>
        </p:nvPicPr>
        <p:blipFill>
          <a:blip r:embed="rId1"/>
          <a:stretch/>
        </p:blipFill>
        <p:spPr>
          <a:xfrm>
            <a:off x="990720" y="1368360"/>
            <a:ext cx="30477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4191120" y="24382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nitor in Tara Romaneas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turc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e inmormantat la manastirea Coz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a mai renumita batalie a avut-o la Rov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LAD TE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Content Placeholder 4" descr="dracula.jpg"/>
          <p:cNvPicPr/>
          <p:nvPr/>
        </p:nvPicPr>
        <p:blipFill>
          <a:blip r:embed="rId1"/>
          <a:stretch/>
        </p:blipFill>
        <p:spPr>
          <a:xfrm>
            <a:off x="228600" y="1371600"/>
            <a:ext cx="3370320" cy="458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657600" y="1676160"/>
            <a:ext cx="5184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nitor in Tara Romaneas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domn care a pedepsit crud nelegiuirile prin tragerea in te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mas faimos prin atacul de noapte in tabara turceasca de la Targov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ANCU DE HUNEDOA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evod al Transilvan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nzestrat armata cu Tun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rtat lupte antiotom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e inmormantat in Alba Iulia, in catedrala cato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Content Placeholder 8" descr="IANCUDE HUN.jpg"/>
          <p:cNvPicPr/>
          <p:nvPr/>
        </p:nvPicPr>
        <p:blipFill>
          <a:blip r:embed="rId1"/>
          <a:stretch/>
        </p:blipFill>
        <p:spPr>
          <a:xfrm>
            <a:off x="533520" y="1330200"/>
            <a:ext cx="33526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6" descr="STEFAN.jpg"/>
          <p:cNvPicPr/>
          <p:nvPr/>
        </p:nvPicPr>
        <p:blipFill>
          <a:blip r:embed="rId1"/>
          <a:stretch/>
        </p:blipFill>
        <p:spPr>
          <a:xfrm>
            <a:off x="436680" y="762120"/>
            <a:ext cx="2963880" cy="3962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3352680" y="167652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FAN CEL M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nitor al Moldov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n crestin, a construit foarte multe manasti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ungurii, polonii, cu turcii si tatar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8" descr="stefancm.jpg"/>
          <p:cNvPicPr/>
          <p:nvPr/>
        </p:nvPicPr>
        <p:blipFill>
          <a:blip r:embed="rId2"/>
          <a:stretch/>
        </p:blipFill>
        <p:spPr>
          <a:xfrm>
            <a:off x="5410080" y="3733920"/>
            <a:ext cx="14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IHAI"/>
          <p:cNvPicPr/>
          <p:nvPr/>
        </p:nvPicPr>
        <p:blipFill>
          <a:blip r:embed="rId1"/>
          <a:stretch/>
        </p:blipFill>
        <p:spPr>
          <a:xfrm>
            <a:off x="1600200" y="457200"/>
            <a:ext cx="2014560" cy="219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733920" y="1219320"/>
            <a:ext cx="4572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HAI VITEAZ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st un mare conducator roman si poate fi considerat un erou deoarece a reusit pentru prima data sa uneasca cele trei tari romanesti : Tara Romaneasca, Moldova si Transilvania in 1600 chiar daca doar pentru un 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turc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505320" y="5791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ursie Mormantul de la Tur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8" descr="DSC03182.JPG"/>
          <p:cNvPicPr/>
          <p:nvPr/>
        </p:nvPicPr>
        <p:blipFill>
          <a:blip r:embed="rId2"/>
          <a:stretch/>
        </p:blipFill>
        <p:spPr>
          <a:xfrm>
            <a:off x="5486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3:03Z</dcterms:created>
  <dc:creator>rodinaloredana</dc:creator>
  <dc:description/>
  <dc:language>en-US</dc:language>
  <cp:lastModifiedBy>Bugs Bunny</cp:lastModifiedBy>
  <dcterms:modified xsi:type="dcterms:W3CDTF">2010-10-03T17:22:05Z</dcterms:modified>
  <cp:revision>29</cp:revision>
  <dc:subject/>
  <dc:title>MIHAI VITEAZU</dc:title>
</cp:coreProperties>
</file>